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F94-5DB3-414E-BD9B-516C1305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FC6-F41A-4F49-A459-B3315738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E5C72-CE26-435A-8195-4C17ADB4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4A5C8-78B8-46BA-AA85-9D568063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066EF-F2B8-4D8E-8C3D-1EC8268A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95C31-F4E5-4E5F-8816-DD89442B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BCBA1-C034-4C36-A536-ECA1EC5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40F73-C260-4156-B52A-7CBDB8D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90B88-677F-426E-8D41-019ED16C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388CC-67F0-4ED8-9718-17273D0E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3F801-1EEF-4804-8B38-3A456A1A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EAACE-6723-48AA-899D-410E4582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1CA-3F4F-415F-959F-0ED9DCD6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09AE8-B373-4A4E-89C2-A033F7E1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53E52-96B2-481C-827F-55E5C706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3A705-7E82-49FD-859D-984FEF09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4C6EB-2AAA-44E6-86EE-76D8A89B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88F40-FFBB-460F-9DDB-A0043A56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CD3BC-61F8-43C5-93F4-EAAFF55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34FFA-9283-4987-8691-C29454C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97563-C22F-4524-9F54-2CFC2A0B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958A7-4FDD-4809-AA15-DA117F27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D8FE4-112A-4018-B5E4-7E57A010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24A-E32C-4C14-A844-40EBFF75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5ED1D-F900-452A-B596-399EA761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FC2AD-7B22-45BB-9B3A-822B5CC7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D5731-A887-41C2-A9AE-642F205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B426D-F030-487E-A18E-F6E58058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1B214-F241-4845-BB86-7567F79C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492AF-CA4D-42A1-B308-5847CF2C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F21A5-6BE7-4707-B452-67798510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C4265-A92A-4D09-A330-5456267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572D5-1067-4A62-8A05-0495BD44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FCAD5-50F8-40D2-A9D0-AFAFA5C8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7F9D-5546-41F1-B5C3-7D569359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69EB1-F089-4A5A-A771-83D50604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FE448-7835-4AE1-9B62-2B56FB37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9242D-D515-4C34-BCA0-0D5E9BC2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B4B8C-1B95-4F74-8E9C-A8FE7651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DC91C-76F5-40AD-B7A1-B5EA5F92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D3EC4-079C-4000-BA0E-D906A513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F1C64-AB6D-44A4-85B6-FFEE2FB2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F5CA1-8116-4C5B-8EE4-67158E7E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6CBEF-0099-47E8-906A-06C66FAD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B708C-D78C-4245-8A47-5551218E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D79F-D11B-48DB-BBB1-9279B20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D480F-8669-41BC-8E30-41227B5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7B2E6-C411-4998-BBB7-FE8788B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166BE-FF91-49CD-A460-99DAC45C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9E28F-90FE-4CF4-B770-9B3B6678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7B9F3-7677-4655-8591-E097B14D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328EB-5B31-4A15-A0AB-A3A1C4E7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76A0F-E354-46F1-B0C3-95A5EC41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80B61-59F2-4F15-87A7-DB2938B9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A9A76-116B-4588-8FD7-612CAAD4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88CCE-106A-4902-A7B9-34A1C0F9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D024-AF1F-4591-8937-F1196B67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578A1-296D-4522-B70C-957AB0A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83787-030B-41CC-A90A-99E35C04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7E707-C8D2-4C7F-8F26-1A8A8FE7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6B54E-F20D-4379-87A9-1E4E088B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E8010-30BC-43E4-804A-92CE308D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F87B2-C1C5-41A7-99FD-DA40AEDF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4E34A-5353-46D8-B814-ED2A4171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E5BD8-BDC7-4A5F-8D27-6C0F4BAB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9173D-E04F-4D94-B178-EC2483C9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243ED-5233-4579-8E61-F16FA423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6126-E26C-4FF3-8F59-B311CCDD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DCCCF-AC48-4DDC-BF67-DBF0BAF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DFAEA-21BD-4437-92BB-72D3F6DC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B177B-D793-4E69-BE13-83CB71CF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ACA1F-5786-491B-82CB-9F489A05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0DE31-91B2-4059-991E-DF488509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08AE9-5DAC-46F9-AFB5-A21B980F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9FC26-16C5-402C-8DFC-5789A0CE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6050D-DDC1-44AF-9275-1EB63D85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8B42A-3269-4BDA-8D41-E60BB770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AADC0-8BF1-4BC0-8637-F7D6F981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4A87-8523-4A7B-A0A0-C1B8CA94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053E0-182F-48B1-B475-790E3C07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1BA35-F410-4C1E-A30A-1D81B52A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970B7-961A-46B6-BE6A-7AFCCCE1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FAFF2-0221-4052-8480-005AFE37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84EF5-8720-44D9-BC97-F6971917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F42EC-24CD-4A63-A0B0-F0E69EB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7B291-2084-4B07-BBDA-B4CD4297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CAAC3-2FC9-46E7-8029-A83C15DD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EC8431-6370-4CC1-A202-6EF05E89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5F351-6B3F-4601-9041-A72A7D7B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51B8-C997-478F-ACE2-A5A18BA5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5D911-C2CE-4B18-B3E2-2ED5DAE6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84484-2BC1-4353-B869-0500CB40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7FE44-07E8-4720-AE09-28D9B756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F2C32B-6B1F-4CFC-B5D1-1A587572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A054B-F9E7-4D93-8829-3B6D3617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320D4-F443-46C4-858F-89ED03BE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E269C-D147-42CE-BD8D-4892D042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88D91-6C80-4CD0-B76A-80B71067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6C2A3-B9FE-4F43-A1FF-9C8A2EF0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F583E-DDC1-4251-89AD-CC2B7E9A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9A9D-D37D-4477-B51C-6EB94661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FB1D1-650E-46D0-8CFC-8064AB0A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78E94-623F-400A-8BFA-B48D17B1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927A18-59E3-4A41-B48A-D4D4676D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AD431-6096-46A2-BCA5-F9FD66E4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946C3-FB29-44EC-9BCF-597460DF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32AB6-35AD-449F-877B-AD742D80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D8238-123F-4285-8106-E1E4D99B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02AD7-2592-44A9-89E6-635215E5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CA7DE-D9E4-4F54-B5BD-973D8494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5685B-639B-4556-961D-65FD3C42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275-AB4C-4D74-9C03-63A72959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1DC9-2A23-4793-8FB8-22D1BCC4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A9808-9095-426C-9C18-B01F5EEF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23144-ED98-456B-96BF-B686BF3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5FC97-2DD1-4FC6-BD4A-AB624E01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F917C-682B-4DF9-940A-A6B2060A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27093-F435-46D6-BDC1-4B03F5B9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CD749-8F43-4292-8D3E-7EEE9B4D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EC02F-B4A5-4A59-8DA8-CCD8B598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F261E-1CAE-4D82-A293-B5B1EB7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16767B-298C-41B9-B2E6-E4D6F53E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26DAE-091D-4FCA-8DA0-9DC60ABD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4602-CA8C-46FD-9B93-1C107571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E79A0-E0C0-4FCB-A676-8038F762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44F840-CA92-48DF-A397-1C29DCB8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02188-5035-400B-8CB2-C139F01F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CD5D4C-0AAE-4B57-9703-9B0D5EB2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E4B7D-12E1-4394-9626-A7F68516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BA878-A694-4BEB-9006-89124303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52329-EB0B-4E56-88CB-3BB35058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313C5-D077-462B-B3FA-D95CA2D0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428FD-C9E2-493D-9E59-155A523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B79F48-2F2B-4521-BC01-74F893FB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1AC1-A82E-489C-ACC5-BB13AE6B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C4C48-E2EC-4057-97D6-A789204C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11AFC-7AF4-43CE-9E82-87FB5229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36385-F251-4BF7-B185-3573FACF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2F203-FF64-42A4-B4A9-0AB3F51F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69612-460E-4803-A288-A7CBF23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1C39A-7E89-471C-AE9C-FD725B5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76FE5-77BF-41EC-8A9F-3DEA5677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A37E4-A695-40EB-982D-DA8B19EC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C484F-7B9C-4B72-9415-6B5FAD33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4EABC6-30A7-4B33-9C1A-C589E3C1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BF24-1E4A-45E9-B8FD-79A4B4FD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8E2AFD-6BDB-4008-AEE4-C0CA6B19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391BAB-1AAF-4AD6-B58B-2D3DC475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5699E-346D-4E1D-8A3D-01B63D77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98F8B-3EB7-4164-940E-459B696E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5A371-2D47-4C71-B5AB-4FD8429C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A00F9-F621-435A-81A0-537291A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20373-8129-4DC2-B69F-3CA9F81D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06A3E4-2294-4DAE-AD66-4C27389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7DBBC-9E67-403A-82D8-88A3A5EE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3A1CB0-4A93-4578-9B67-C534F6E4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EF77-7E9A-4E55-BA16-2B81C14E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C47AED-D795-472C-8BE4-5643D87B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A637FD-E0FA-4961-B747-CA4D3034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C3F430-0E79-4FF5-8B7F-6ECF8E1B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28731-7616-4576-B43D-D23A8BF5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DC9CDD-3FAC-4829-8407-35A43AEE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74E138-88F8-459E-B181-09BC9DA6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3F81D-67A6-40B1-9671-7632D8AC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686CCA-705C-45CB-88D6-D1D03418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BF0AA-ACC5-4E5E-ACE4-78DA5208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9CBE4C-1F5F-4F01-9382-B0AC12C1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39D9-4537-4BE8-8BCE-AC83C566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4FE480-2C43-475C-BED7-3D1E5B26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CE692-D538-47CD-B54E-86E9B38C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108F43-BC25-4D13-9715-BB67FD36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E91F-7367-4BC8-AAC2-3F69BA4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917A-CE5F-4E39-B55C-EA1BFDBC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F9AE-3806-4822-8607-47E9E159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7C79-B333-4995-B345-7F68588C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3FD-4CE3-47D6-B048-61E62C7E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60F3-8A53-4CAC-BAD4-B5A73CC6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1A0A-D14F-4803-9BD0-3A075853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9C5C-7DE5-459E-9DF8-42B51B10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78F9-8EFA-4927-A896-E0C76C2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EE48-BDC6-470F-8ED4-BF5DAB0D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0904-CDBF-4C4E-A191-ACACEB59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8442-D429-4A25-B13D-A2A090E3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22B4-D0C7-4320-AD1B-1E04AE24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E339-9AD1-43DC-9F58-FE337D20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AD039-D9B3-4BB2-AF56-D713E3BF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2AC-B8FB-4E4E-985F-A460787D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5DBD-0255-4414-AF37-55D22BB8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2C182-0190-4575-9A58-DC97B4DA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826E-E48D-4E22-BC5D-C87AFBFB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492D-DC2C-4AC7-8C4C-52F432BF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00BF-2640-4A15-899A-6B38109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7AF4-4359-44FC-B250-AE19D296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39BC-853B-4976-A372-1116C70C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7A0B2-BA62-4836-B5FC-3B35756A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F222-20FE-4FC2-AC6B-0D8112E1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DA126-5F13-4FA7-8077-6257E65E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5C2-AC4F-43E0-A47E-59205F21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6FF13-9F95-48EC-99BF-0B2C4170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34368-D409-4134-913B-65D9A5FB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BCCE0-8B32-4AA9-957F-E2611609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C942-97D3-474D-9DD3-560FC4D4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76AF4-B849-44A9-93A6-87C7F1FB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53A40-9527-400A-A05B-64F5D23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48803-41C2-4F16-B4EE-74C95E3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A6CF-99B3-4720-ACBE-85213223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46A07-F46A-43CF-8375-FAF16486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5108-A4E8-496D-B8B0-026C1788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396-FAEE-48F8-A9EA-D822DC78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A9F91-0018-40F1-91DB-7D3293FF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ABF7F-AB42-4CFD-AB7A-2514B54E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81B93-406F-4555-B3D7-2EFA1454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122EC-2B3C-4826-8571-A3570D98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39826-7193-4EE9-9231-C2E7EF88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DE91F-9AD3-4B46-92AA-9AC79F7D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1D428-5CAB-49E3-9270-0831B54D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0F419-8926-4D70-93BB-1A6CFA1C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EC6E7-C546-421E-8BAB-CC0AD41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EF271-273C-45D2-B4D4-54AEEE8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A88-9832-436C-84E4-741DEDD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B4CFC-A476-49D9-8301-0305BAB3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3FF5-009D-4F74-8349-99BC0F22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8AD89-7A01-4215-81EE-035B51D8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0675-DF68-4015-8240-67E20DC7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C267A-25C8-4A75-AF8A-351D3AA4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733B7-AEA5-450F-9707-8B1290C7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95234-6072-4DF9-B95E-09D6A4BB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115D6-9AC0-4C06-9658-2263B141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C192E-F5AF-4777-98CA-3864446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F215-635F-44D8-A21F-727A5443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F96-F6C8-4604-A3CC-7FC2EE6C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8C5D6-874F-4981-8FA0-9B1F2BD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7A46F-7AF9-4E16-BC13-1353656A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85614-CF2A-43C7-8EFA-6EC22275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28D25-89D0-4D36-B17C-2AD803B4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41EE7-48E9-4A94-8FD2-92EDF306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34F78-9083-4F64-B8BA-CFCA1FB0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E0C83-834B-4823-8CC6-CBEBE939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E58BD-F644-4FBC-BD9D-2A2F471E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D8E0-3CCA-4E17-96C7-978BBB8F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6F5C-16C0-44C7-AE75-04A0A6B5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513-2BB3-4DC3-AB58-9A0B4A00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87B2-4267-415A-ACC9-96025104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115EE-5495-4611-A728-CF8747E1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6636F-DBBD-4D91-B45D-753189DD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7C224-24F7-4253-9F76-92EA5437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2BC25-53B0-465F-B0D9-1F49C2A1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6626F-1AB1-4AAF-9B52-44FD785D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244EB-4A24-479D-8A63-993B7DA8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6E165-BD99-4071-8717-023E8FDB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01BE8-8615-44A7-A1AA-7F7DB991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9B5CD-4C6D-4B74-997B-2B0DB921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B698-7B92-4653-825E-37766C47D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F06E-A64B-4A55-BEC1-36A5A0F36D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1364-B6A9-475B-8DD8-AABCE54B71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C88A-8144-40F9-8E14-D1970EC5C3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9FAD-56B5-4695-8CE8-FD717040B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65EB-CBE9-4FD7-AC11-AB76046000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032-7A01-40D8-B7EA-E159BA39CB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4F26-CA50-4E40-ACDE-92ED36A6F5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7CB0-84C5-49FE-B561-40602BEAB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D17D-A874-48FB-B9F0-0F9F5D29DF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2A08-C4D2-46FF-9A3F-EFD6AF218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CB8D-DAEE-4AB7-A439-2A56A2B7FA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B80B-962B-4831-8E06-A8214D1D2B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DFBF-606C-4631-B8C2-74F7E473C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1F3B-F46B-4386-9C04-0D9B5F12EA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B171-945B-46F9-B6EE-AB44D282ED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E7CD-F252-4E90-99F5-47C3161CB8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2566-49FA-4A9D-B89B-45A9C6154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E9CB-860F-45A7-9D48-EE7126953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F514-4586-4618-A036-844B434EF4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6971-023F-4293-B1F7-10B31000C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5782-1C6B-4F98-BBA8-FF5DA452A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0E8-8B35-44CA-A73C-B3B7E774F4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963B-01D2-4D2D-B79E-0E97A2C00C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B008-3D43-419E-802F-D9B769DAD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9A7A-C1DA-4E44-B7C8-3C93431A2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5186-D6B2-4EAF-96ED-96D8145AE9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9ABF-1223-4AA6-9541-1C28D315F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1CF8-C68A-4B87-BCBE-9CB18E0314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6CD2-5C83-4627-B69E-24875AFECC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3F82-F66D-4581-878E-3B0D879C4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9B4-4825-4413-870C-A4B5D303F5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0788-124B-4AFF-A3B7-1CC8107088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0857-08BE-4607-BDD8-1E8E8C315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A024-EDD8-4B4D-A4B3-1D7B1960A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FB2C-CCED-4E85-B2DB-1958F5D242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C0F-CFCD-49F3-81CD-886E18CA55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9312-27FF-48AE-A80B-E8CEAC6004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438B-31FD-4FBC-AA7B-C8C07834B2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B0D0-FD1D-49D4-B545-B3DB7A70E3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9400" y="2597040"/>
            <a:ext cx="88452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7" name="图片 1" descr=""/>
          <p:cNvPicPr/>
          <p:nvPr/>
        </p:nvPicPr>
        <p:blipFill>
          <a:blip r:embed="rId1"/>
          <a:stretch/>
        </p:blipFill>
        <p:spPr>
          <a:xfrm>
            <a:off x="1357200" y="2195640"/>
            <a:ext cx="6429600" cy="24667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2"/>
          <a:stretch/>
        </p:blipFill>
        <p:spPr>
          <a:xfrm>
            <a:off x="2743200" y="2795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3"/>
          <a:stretch/>
        </p:blipFill>
        <p:spPr>
          <a:xfrm>
            <a:off x="2627280" y="4091040"/>
            <a:ext cx="792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2" name="图片 1" descr=""/>
          <p:cNvPicPr/>
          <p:nvPr/>
        </p:nvPicPr>
        <p:blipFill>
          <a:blip r:embed="rId1"/>
          <a:stretch/>
        </p:blipFill>
        <p:spPr>
          <a:xfrm>
            <a:off x="743040" y="1090440"/>
            <a:ext cx="7657920" cy="46771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2"/>
          <a:stretch/>
        </p:blipFill>
        <p:spPr>
          <a:xfrm>
            <a:off x="1908000" y="3514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3"/>
          <a:stretch/>
        </p:blipFill>
        <p:spPr>
          <a:xfrm>
            <a:off x="1908000" y="1643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4"/>
          <a:stretch/>
        </p:blipFill>
        <p:spPr>
          <a:xfrm>
            <a:off x="1908000" y="537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5"/>
          <a:stretch/>
        </p:blipFill>
        <p:spPr>
          <a:xfrm>
            <a:off x="1908000" y="2276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6"/>
          <a:stretch/>
        </p:blipFill>
        <p:spPr>
          <a:xfrm>
            <a:off x="183528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7"/>
          <a:stretch/>
        </p:blipFill>
        <p:spPr>
          <a:xfrm>
            <a:off x="1908000" y="472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8"/>
          <a:stretch/>
        </p:blipFill>
        <p:spPr>
          <a:xfrm>
            <a:off x="1908000" y="28954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71280" y="1209600"/>
            <a:ext cx="8999640" cy="44388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684360" y="4508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5"/>
          <a:stretch/>
        </p:blipFill>
        <p:spPr>
          <a:xfrm>
            <a:off x="684360" y="49118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6"/>
          <a:stretch/>
        </p:blipFill>
        <p:spPr>
          <a:xfrm>
            <a:off x="684360" y="5315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357720" y="1504800"/>
            <a:ext cx="2162160" cy="3715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266760" y="2476440"/>
            <a:ext cx="8610480" cy="1905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4614840" y="4062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6227640" y="4048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8728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8028000" y="4062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2916360" y="4062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19160" y="971640"/>
            <a:ext cx="8904240" cy="4914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755640" y="234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755640" y="4164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755640" y="5099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366840" y="2195640"/>
            <a:ext cx="8408880" cy="24667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014480" y="2608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04292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971640" y="3486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042920" y="39038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971640" y="43070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152280" y="1333440"/>
            <a:ext cx="8839440" cy="4191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2268360" y="4135320"/>
            <a:ext cx="64800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3492360" y="4164120"/>
            <a:ext cx="792360" cy="320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4788000" y="4164120"/>
            <a:ext cx="792000" cy="320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5940360" y="4135320"/>
            <a:ext cx="792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7380360" y="4135320"/>
            <a:ext cx="151272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2484360" y="494172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8"/>
          <a:stretch/>
        </p:blipFill>
        <p:spPr>
          <a:xfrm>
            <a:off x="3851280" y="4956120"/>
            <a:ext cx="792000" cy="320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9"/>
          <a:stretch/>
        </p:blipFill>
        <p:spPr>
          <a:xfrm>
            <a:off x="5219640" y="4941720"/>
            <a:ext cx="792360" cy="320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0"/>
          <a:stretch/>
        </p:blipFill>
        <p:spPr>
          <a:xfrm>
            <a:off x="6443640" y="4941720"/>
            <a:ext cx="79236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1"/>
          <a:stretch/>
        </p:blipFill>
        <p:spPr>
          <a:xfrm>
            <a:off x="7812000" y="4941720"/>
            <a:ext cx="792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404640" y="2209680"/>
            <a:ext cx="8332920" cy="24386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1087560" y="2608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104292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1101600" y="3471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1042920" y="387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1087560" y="4292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372960" y="804960"/>
            <a:ext cx="7675560" cy="268596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2" descr=""/>
          <p:cNvPicPr/>
          <p:nvPr/>
        </p:nvPicPr>
        <p:blipFill>
          <a:blip r:embed="rId2"/>
          <a:stretch/>
        </p:blipFill>
        <p:spPr>
          <a:xfrm>
            <a:off x="781200" y="3595680"/>
            <a:ext cx="7267320" cy="31701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3564000" y="278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3419640" y="3990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2627280" y="502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6"/>
          <a:stretch/>
        </p:blipFill>
        <p:spPr>
          <a:xfrm>
            <a:off x="5753160" y="50277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7"/>
          <a:stretch/>
        </p:blipFill>
        <p:spPr>
          <a:xfrm>
            <a:off x="3967200" y="60930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190440" y="306360"/>
            <a:ext cx="8763120" cy="6399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900000" y="27226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900000" y="3948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900000" y="4782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7"/>
          <a:stretch/>
        </p:blipFill>
        <p:spPr>
          <a:xfrm>
            <a:off x="900000" y="558972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1073160" y="1576440"/>
            <a:ext cx="6858000" cy="37051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2700360" y="3400560"/>
            <a:ext cx="576360" cy="3204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2843280" y="4681440"/>
            <a:ext cx="649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3:0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